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1ACB-2100-462D-950C-9F3FF0D7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06C2-7AC0-4BA4-9D62-256EB19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97AB-F663-4550-8A05-0BF11A17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9F46-876A-46CA-AB20-6467976C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CFE-6C38-4248-B6C7-FB52CC7A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843D-E606-4E4B-85EC-2A869A2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76D-A648-4EF7-9933-FA738293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BB68-D3BB-41B0-B14D-312CB5C0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D6A-E9F3-447C-95F8-2AB5E01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0477-8932-4AE4-87F6-626C8B4C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0FE-D75A-495D-B612-D6CAB9A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D0C3-80C8-4A3D-B1A9-144A6F94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441-194D-4FC6-BF53-B5D0ECFD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6E5-E492-4F35-A63A-E81D928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63A-A1D2-4CF0-9782-27A33A9E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7B5-3E3D-470C-AAAA-03774BCF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B30E-54AA-4CF6-8CC5-98A70756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CF4A-D70B-4075-9F7A-2B16756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CCFA-B979-4A59-85CB-4F567E4D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F33C-5F19-47E2-A61C-5247D125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D03A-984F-4322-9556-4C72198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F9B8-E00A-4B96-826E-120019B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5614-C358-4D56-854D-8DC1AB7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47A7-D00B-4869-90F8-207A35B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28F-2BB3-433D-AF20-15A71C4791A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8EC2-AFD9-4DE7-ABA0-D6368D90B3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532800"/>
            <a:ext cx="885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38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ав да си ти, прав и смел, смел, за да казваш все истината! Истина чиста Бог иска от нас, правда и истина Божи са глас! Прав ла си ти, прав и смел, смел, за да казваш все истина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36360" y="1809000"/>
            <a:ext cx="92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ав да си ти, прав и смел, смел, за да казваш все истина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истина чиста Бог крепи тоз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вда и истина Божи са 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в да си ти, прав и см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ел, за да казваш все истина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ав да си ти, духом здрав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гледай другите - ти да си прав! Истината е живот на свет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вда и истина Божи са път! Прав да си ти, прав и сме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спод на силите твой е твърдел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41:07Z</dcterms:modified>
  <cp:revision>59</cp:revision>
  <dc:subject/>
  <dc:title>Slide 1</dc:title>
</cp:coreProperties>
</file>